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3FF-B816-42FE-84CB-91AE95BF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FA1B-433B-4D2B-9A04-0FEB7659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289-95BA-498C-80E4-51138E6F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0E3-3E2D-4D2D-8671-DB04D942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0181-62F8-459E-B5F3-7A20CF6E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B7B-E67C-4DCA-87AE-EF84FB32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600BC-FC69-4C88-9D64-F7BFE85E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F429-EF38-4FEF-AF8C-85D8C45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8B52-0D31-46C1-8682-19480085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4DF5-8110-43C4-B2E3-994F080A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F462-2122-4694-9D03-C7F011CB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0BA-978C-4C61-A13C-7602BCBE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C768-A8D8-4C24-B4E1-9ADA445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C71F-A4D4-4460-8DCF-E365905A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EF05-676A-4E60-A930-CE02C870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A565-7CEA-4F33-A3E1-CA063A24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8FC9-A1AD-4650-B81C-FBB6CBDD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02C15-DA51-41BD-9F66-40F674CD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A1443-FB0C-420F-AC65-DFAF0BE9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25209-53C4-4384-AB4E-1C19FB94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4708-A570-4ABA-ACC6-3C7D4A54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F6B1-15F9-4221-8EE6-5EFAEC2E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8A9-C42F-4E9B-9FCC-D013A90B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FD8C-2A20-49CC-9C63-E8ED129D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4EAC-B3BD-40EE-9FF9-7697C6BF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57C65-596D-42D0-9458-8E3E647F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BA9A-6994-4EA4-A307-7B57AA4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8D7F-74F4-41F1-959F-1185B923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5C0E-E4FC-48A9-9D9E-AD16FC91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ABF3-C095-4AD7-B372-8DB1AA17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D649C-7A84-4C8F-8A40-F0DFD8FE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27FB-49F0-4A05-A74A-E7177511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7330-D87C-4DD6-ABA9-4790284F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884-B0F6-4111-B16D-28C6BF66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7FB95-0AEB-42C3-BED0-15E5AAE0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51628-A1B7-4C21-99BB-6E3D4A23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86F1D-B245-4A7E-BEE2-3AF3D4A7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0CBB-120C-4175-89A7-B699206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6970-86C5-4FD5-9CE2-A6B0F74F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E3489-7DCB-4CFB-A86E-920F95B8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42A8-701B-406B-BAED-10DEF0AC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E959A-E53D-4A85-98D5-0195B5C2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972D-FCD3-4D76-8523-9A363123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858CB-64DA-42E5-9859-C2EBBDA2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95A-E621-452B-97EF-64B75312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A06E-86CE-435C-BA8E-06AF2CA1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F465-97C1-42AE-AB14-5C01C448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B1BF-B10C-42D4-9A89-4AFDD89E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98CA3-EA45-4685-AAA0-8C1C5E56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492CC-2701-4756-B93E-332B4C15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1CD68-2B22-4B71-84C6-0D7B6F63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C3FEC-5256-436F-83A5-F795A69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FC130-5ACD-42CC-8697-757F3505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8295-ECC8-4452-9737-3C9C8AF2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4FB4A-312E-4ECF-9733-56A2C8D5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9BE2-6CC0-4A80-B20D-2959B2D4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065E-F48D-4333-880A-1CD66011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60E5-BB64-4956-B1D0-3905868D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A730-48C2-48A8-937C-930C7C8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D72B-E2E1-441E-94ED-896A6123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172AB-A39A-4F59-A3CC-F04D8A64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54978-09EA-4A55-A1D5-BFAA16C7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AFD9-DC39-43AF-A527-B8F6974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5683C-A056-401F-BF80-7C284106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C6937-C83A-4B38-A467-53CCCD64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C32E-49B0-41AE-92F0-69200A62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1A1-112D-4692-B21D-182468F1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D51A-F5EA-4FFD-8085-1A46B3CE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E92E-A27E-44A4-8F4B-98C4B512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D2CD6-9B58-472B-BC1B-5442458B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5F5ED-B7BB-4678-B840-0CCD5994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847AA-FB70-4DC2-9AAD-2CDF36A1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1DCA1-ACF4-40D3-A64C-3963B290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D799-3BDE-409D-BDA0-1D9381F6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FCBFC-0619-4758-B020-36441652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E6EA1-6FBD-4EF9-BAE0-B616A04C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CE1E0-8FE6-4856-B58C-9DD9F3D1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0888-B0AD-4296-8201-24B7886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6ED71-355E-4FFE-8CFF-21F702A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16A1-BDAB-4964-9DFC-D8D6451E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C5F3C-652B-4AE3-B25B-FF1E21F8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FE4AB-0ECA-4968-B1A9-4FE018F0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FD76A-84DD-45C2-94D8-647C8ABF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BFC-E946-4B7F-B1F1-4AF845C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D88C9-ADB6-4812-A447-C348B288607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DBB75-03E3-4C11-994A-80A2C3B0C8C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3A5BD-B879-4BFA-9A78-8C12E17D7AD3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C039B-CAAC-4C4B-9325-C9397739AA6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55753-2A08-41D5-8BC0-B8C491D0EE5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A1130D-4DDE-4932-B556-E82D15CC1A9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2B82D-0A63-4F6C-BC0B-CFD9F8CF720F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89D9D8-4CCC-42A0-9918-77D8ECA76C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A8DCF0-0E0B-4254-A311-5C8627F2BF77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63D6D-D3A8-434A-A5C3-0FE852EB299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F9D6C-A99C-47D0-A1C0-84DB8DC6617C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D75C7-6DCC-47FF-B7BE-FE22CD0A20A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80E05A-8F3D-4925-8AD4-1C84CC85BF94}" type="datetime"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371C7-7B35-44E0-BE17-AEB204BE63F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2030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907920" y="4340160"/>
            <a:ext cx="7785360" cy="198144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o infinity and beyond…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is it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-mining system for scientific litera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ull body text sear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iological categor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Groups of terms describing a concep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ersonal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veloped by Hans-Michael Muller et al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art of WormBase at CalTe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tensive C. elegans cu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Textpresso: an ontology-based information retrieval and extraction system for biological literatur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ller HM, Kenny EE, Sternberg PW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LoS Biol. 2004 Nov;2(11):e309. Epub 2004 Sep 21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extpresso.or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urrent Statu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ork projec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sted on Sourceforg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sourceforge.net/projects/textpresso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Interface overhau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eavy integration with jquery datatabl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http://datatables.net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login/regist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 corpus through GU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ignificant code rewrit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odularization/customiz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Better database support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Plug-in API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jaxification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peed increa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code works poorly with MacOSX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5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uture Roadmap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marter paper analysi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thods tagging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etter PageRan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55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feren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In-browser paper display/highlighting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 la Google Book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etter command line functiona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oper GMOD integr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ioperl mashup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Questions/Suggestions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ml5566@gmail.co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23:44Z</dcterms:created>
  <dc:creator>Nathan Liles</dc:creator>
  <dc:description/>
  <dc:language>en-US</dc:language>
  <cp:lastModifiedBy>Nathan Liles</cp:lastModifiedBy>
  <dcterms:modified xsi:type="dcterms:W3CDTF">2010-01-22T18:17:10Z</dcterms:modified>
  <cp:revision>5</cp:revision>
  <dc:subject/>
  <dc:title>Textpresso</dc:title>
</cp:coreProperties>
</file>